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5A47-8355-4A5F-96FA-E832A2232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79BF-FDEE-485D-BF46-4471E0A90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CAA0-64D2-4991-8570-8D909B31E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77F2-F8CD-4E67-928F-D8FCE9FD5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9A31-0EFF-43A6-93BD-3D04E984A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F695-C630-48DE-B4D0-1BD34CEA3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658D-A006-4E8C-AF2E-1C6AB2AE2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0913-9278-4ACF-AAE1-53FBF49D3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1960" y="3049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E63D-8BD2-4CDF-9747-534AB6E4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CAA4-8C9D-4A9C-9F78-4C4D66D8E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751E-C307-4ADE-9985-57144D2BC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8E98-8EA2-43BC-9BA5-78EA89F42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172200"/>
            <a:ext cx="686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© 2001-2005, Cosaint Inc. – All Rights Reserved. Permission is granted to copy and use this course for demonstration purposes. However, it may not be copied or used for any other purposes - commercial or non-commercial - without the explicit permission of Cosaint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4EFF-689B-4731-92B5-6DBA48452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osaint_150_white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71468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saint.net/" TargetMode="External"/><Relationship Id="rId2" Type="http://schemas.openxmlformats.org/officeDocument/2006/relationships/hyperlink" Target="http://www.cosaint.net/" TargetMode="External"/><Relationship Id="rId3" Type="http://schemas.openxmlformats.org/officeDocument/2006/relationships/hyperlink" Target="http://www.cosaint.net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Tahoma"/>
              </a:rPr>
              <a:t>Good Password Practice 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e: This is a short extract from a training course developed by Cosaint Inc. which is aimed at the users of computer systems. You should assume that we have already covered what makes a password strong, and what makes a password weak earlier in the cour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more information about this and other information security training courses available from Cosaint, please visit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cosaint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3"/>
              </a:rPr>
              <a:t>.net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EB3F-BD8A-40C1-B6BC-CAEFB360BBA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Using Images as Reminders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ould use a picture or series of pictures to remind you of your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 don't make the pictures too obvious. Maybe a picture of three boats and a ship sailing on the ocean could remind someone their password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Boats&amp;1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479680"/>
            <a:ext cx="380988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617C-CEB8-427B-A5F9-B0C79699C9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one of the passwords that you created in an earlier exerc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picture that reminds you - in some way - of the pa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another student to try to figure out the password from the pi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580A-CEB4-4AAB-9862-76D75DAA0BE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You Should Have Learne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weaker but easier-to-remember passwords where you don’t really need strong secur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as for creating &amp; remembering strong password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ngs that you like (or dislike?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ra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ing down your pass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pictures as remind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1320" y="2014560"/>
            <a:ext cx="256536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EFF1-20FB-4548-8F99-F266A32742D8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You’ll Lear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2484360"/>
            <a:ext cx="5029200" cy="17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section you’ll learn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out the advantages of using several pass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tips to help you choose and remember a strong passwor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6D37-C51E-4BE7-93BB-3473AC42DFC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Using Several Password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's a big difference between the password you use to access your bank information across the Internet, and a password you need to access your fantasy baseball leagu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could use a cheap disposable password for things that don't require strong security, but use a good (and different) password for sensitive inform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should never use your work passwords for personal accoun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3809880" cy="26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94040" y="4495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r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8560" y="4800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</a:rPr>
              <a:t>H2#%ap9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F6E9-E7C4-45E9-9F7B-4419F36582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ings You Like To Do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way to select a password is to choos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things you like to do; 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things that you dislike; 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movies you like to watch 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n outdoor enthusiast might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2Hike&amp;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password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rememb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enough (nine character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lower case, upper case, digits and symbo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4267080"/>
            <a:ext cx="3673440" cy="1066680"/>
            <a:chOff x="5029200" y="4267080"/>
            <a:chExt cx="3673440" cy="1066680"/>
          </a:xfrm>
        </p:grpSpPr>
        <p:sp>
          <p:nvSpPr>
            <p:cNvPr id="53" name=""/>
            <p:cNvSpPr/>
            <p:nvPr/>
          </p:nvSpPr>
          <p:spPr>
            <a:xfrm>
              <a:off x="5029200" y="4267080"/>
              <a:ext cx="3581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43600" y="4267080"/>
              <a:ext cx="27590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 Improve It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ou could replace some of the letters with characters or symbols that look similar e.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2H!ke&amp;J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j0286744" descr=""/>
            <p:cNvPicPr/>
            <p:nvPr/>
          </p:nvPicPr>
          <p:blipFill>
            <a:blip r:embed="rId1"/>
            <a:stretch/>
          </p:blipFill>
          <p:spPr>
            <a:xfrm>
              <a:off x="5105520" y="4343040"/>
              <a:ext cx="77796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50532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B150-8A34-4872-957E-CF82E289FF5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2 things that you like (or dislike?) - 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ports a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ype of mus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g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2 words that relate to these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some of the letters with numbers or special charac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you have a password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latively) easy to rememb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5E8A-748F-4B96-907F-C08C8C798B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ras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good way to remember a password is to base it on a phr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the expression "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ri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ys" might remind you that your password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1mE_N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we changed the letter 'i' to the numeral 1. We also mixed in some capital lett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309760"/>
            <a:ext cx="3809880" cy="30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4C88-F621-4E7D-97C8-F48741BCA8B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nk of a simple phrase that you can rememb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some of the letters - for 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st letter of each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st and last letter of each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e the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some numbers and/or special characters. Replace some of the letters with numbers or special charac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you have a password that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elatively) easy to remembe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2FDE-C95B-467E-BB9D-1BB9A56B72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riting Down Your Passwor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times, you just have to write down a password. If so, try to disguise it in some w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might invent a person and address in an address book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k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9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nt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eph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rt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pt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stin, T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ch might remind you that your password i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JF1094SJC#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ly you know that this person is imaginary so this is pretty secure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1738440"/>
            <a:ext cx="3504960" cy="21952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876920" y="4343400"/>
            <a:ext cx="3673440" cy="1447560"/>
            <a:chOff x="4876920" y="4343400"/>
            <a:chExt cx="3673440" cy="1447560"/>
          </a:xfrm>
        </p:grpSpPr>
        <p:sp>
          <p:nvSpPr>
            <p:cNvPr id="68" name=""/>
            <p:cNvSpPr/>
            <p:nvPr/>
          </p:nvSpPr>
          <p:spPr>
            <a:xfrm>
              <a:off x="4876920" y="4343400"/>
              <a:ext cx="35049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1320" y="4343400"/>
              <a:ext cx="2759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nother Idea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ou can also use this technique to record PIN numbers for (say) bank accounts if you have to write them down. Simply make them part of a phone number for an imaginary person e.g. 206 555 </a:t>
              </a: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1212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j0286744" descr=""/>
            <p:cNvPicPr/>
            <p:nvPr/>
          </p:nvPicPr>
          <p:blipFill>
            <a:blip r:embed="rId2"/>
            <a:stretch/>
          </p:blipFill>
          <p:spPr>
            <a:xfrm>
              <a:off x="4952880" y="4419360"/>
              <a:ext cx="7779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47A7-3B42-4694-93B7-D753F10864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strong passwor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t least 8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x together letters, numbers &amp; special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 a “name and address” that you could write down (if absolutely necessary) to remind you of the pa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another student to try to figure out the password from the name and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B65B-7B78-4DD8-9E9D-0AD68EA8C6A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8:18:04Z</dcterms:created>
  <dc:creator>Steve Addison</dc:creator>
  <dc:description/>
  <dc:language>en-US</dc:language>
  <cp:lastModifiedBy>Steve Addison</cp:lastModifiedBy>
  <dcterms:modified xsi:type="dcterms:W3CDTF">2005-08-08T20:52:03Z</dcterms:modified>
  <cp:revision>82</cp:revision>
  <dc:subject/>
  <dc:title>Title Page</dc:title>
</cp:coreProperties>
</file>