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D638-08B2-41BA-AD40-85DEC34FD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596C-6D3C-45EE-A0CF-33863EC1C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CFB3-3AE7-4E94-B657-B350709A4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6C11-6C6B-4557-B2CF-BFCD48B37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F50E-259C-43DC-9247-2E72D4D32B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15B9-FEB5-4983-BF7D-A1EAE7B02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5153-620F-44E7-BEE7-90DDFDB57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5931-A881-4B38-A908-DD36BF774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1960" y="30492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113F-D5B6-47B3-B0C7-0BA7168FC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3ED6-8747-45B2-A0FB-62338969C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B198-787C-430A-BD85-509AB7B7C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08F5-ABD4-4358-AD99-2945F25DE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172200"/>
            <a:ext cx="686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© 2001-2005, Cosaint Inc. – All Rights Reserved. Permission is granted to copy and use this course for demonstration purposes. However, it may not be copied or used for any other purposes - commercial or non-commercial - without the explicit permission of Cosaint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0146-B199-4AE3-A758-88CA196C1F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osaint_150_white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714680" cy="90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saint.net/" TargetMode="External"/><Relationship Id="rId2" Type="http://schemas.openxmlformats.org/officeDocument/2006/relationships/hyperlink" Target="http://www.cosaint.net/" TargetMode="External"/><Relationship Id="rId3" Type="http://schemas.openxmlformats.org/officeDocument/2006/relationships/hyperlink" Target="http://www.cosaint.net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Tahoma"/>
              </a:rPr>
              <a:t>Good Password Practice </a:t>
            </a:r>
            <a:endParaRPr b="0" lang="en-US" sz="4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te: This is a short extract from a training course developed by Cosaint Inc. which is aimed at the users of computer systems. You should assume that we have already covered what makes a password strong, and what makes a password weak earlier in the cour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more information about this and other information security training courses available from Cosaint, please visit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ahoma"/>
                <a:hlinkClick r:id="rId2"/>
              </a:rPr>
              <a:t>cosaint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ahoma"/>
                <a:hlinkClick r:id="rId3"/>
              </a:rPr>
              <a:t>.net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1D68-41D0-4DD8-BABE-C79A63BFC63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Using Images as Reminders 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ould use a picture or series of pictures to remind you of your passwo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 don't make the pictures too obvious. Maybe a picture of three boats and a ship sailing on the ocean could remind someone their password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3Boats&amp;1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2479680"/>
            <a:ext cx="380988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A18E-604E-4AFF-AE5E-C8C3D63EC6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y It Now …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one of the passwords that you created in an earlier exerc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 picture that reminds you - in some way - of the passw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another student to try to figure out the password from the pi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4285-5764-4C58-B697-F1A5A8BEAA8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You Should Have Learned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weaker but easier-to-remember passwords where you don’t really need strong securit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as for creating &amp; remembering strong password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ngs that you like (or dislike?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hra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ing down your passw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pictures as remind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1320" y="2014560"/>
            <a:ext cx="2565360" cy="35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2C4C-08E6-47F9-BA24-11F85C0D8969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You’ll Learn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400" y="2484360"/>
            <a:ext cx="5029200" cy="17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section you’ll learn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out the advantages of using several pass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tips to help you choose and remember a strong passwor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5343-740F-4AD3-B30C-AF4DE095CB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Using Several Password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's a big difference between the password you use to access your bank information across the Internet, and a password you need to access your fantasy baseball leagu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could use a cheap disposable password for things that don't require strong security, but use a good (and different) password for sensitive informa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should never use your work passwords for personal accoun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2511360"/>
            <a:ext cx="3809880" cy="2671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94040" y="4495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ar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8560" y="4800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urier New"/>
              </a:rPr>
              <a:t>H2#%ap9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1094-EE64-4959-ADCC-FC9DF877C4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ings You Like To Do!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way to select a password is to choos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things you like to do; 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things that you dislike; 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movies you like to watch 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an outdoor enthusiast might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2Hike&amp;Ru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password i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rememb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enough (nine character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lower case, upper case, digits and symbo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4267080"/>
            <a:ext cx="3673440" cy="1066680"/>
            <a:chOff x="5029200" y="4267080"/>
            <a:chExt cx="3673440" cy="1066680"/>
          </a:xfrm>
        </p:grpSpPr>
        <p:sp>
          <p:nvSpPr>
            <p:cNvPr id="53" name=""/>
            <p:cNvSpPr/>
            <p:nvPr/>
          </p:nvSpPr>
          <p:spPr>
            <a:xfrm>
              <a:off x="5029200" y="4267080"/>
              <a:ext cx="358164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43600" y="4267080"/>
              <a:ext cx="275904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o Improve It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You could replace some of the letters with characters or symbols that look similar e.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2H!ke&amp;J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j0286744" descr=""/>
            <p:cNvPicPr/>
            <p:nvPr/>
          </p:nvPicPr>
          <p:blipFill>
            <a:blip r:embed="rId1"/>
            <a:stretch/>
          </p:blipFill>
          <p:spPr>
            <a:xfrm>
              <a:off x="5105520" y="4343040"/>
              <a:ext cx="777960" cy="74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50532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0EEB-F689-4B83-A8C7-0E187EAB67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y It Now …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of 2 things that you like (or dislike?) - for 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sports activ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type of mus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g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 2 words that relate to these activ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some of the letters with numbers or special charac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you have a password that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o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latively) easy to rememb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D338-B1F0-4DD9-B5A5-BF1B5D4807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rases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good way to remember a password is to base it on a phr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, the expression "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ri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r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ys" might remind you that your password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1mE_N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we changed the letter 'i' to the numeral 1. We also mixed in some capital letter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2309760"/>
            <a:ext cx="3809880" cy="30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A870-00A7-4BA8-90FB-804FC7FE35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y It Now …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nk of a simple phrase that you can rememb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ke some of the letters - for examp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rst letter of each w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rst and last letter of each wor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e the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 some numbers and/or special characters. Replace some of the letters with numbers or special charac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 you have a password that i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ong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relatively) easy to remember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0C1A-2794-4083-8902-43866D3F9B3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riting Down Your Password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metimes, you just have to write down a password. If so, try to disguise it in some w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ou might invent a person and address in an address book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k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9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int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eph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rt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Apt 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stin, TX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ch might remind you that your password i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JF1094SJC#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ly you know that this person is imaginary so this is pretty secure!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1738440"/>
            <a:ext cx="3504960" cy="219528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876920" y="4343400"/>
            <a:ext cx="3673440" cy="1447560"/>
            <a:chOff x="4876920" y="4343400"/>
            <a:chExt cx="3673440" cy="1447560"/>
          </a:xfrm>
        </p:grpSpPr>
        <p:sp>
          <p:nvSpPr>
            <p:cNvPr id="68" name=""/>
            <p:cNvSpPr/>
            <p:nvPr/>
          </p:nvSpPr>
          <p:spPr>
            <a:xfrm>
              <a:off x="4876920" y="4343400"/>
              <a:ext cx="350496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1320" y="4343400"/>
              <a:ext cx="2759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nother Idea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You can also use this technique to record PIN numbers for (say) bank accounts if you have to write them down. Simply make them part of a phone number for an imaginary person e.g. 206 555 </a:t>
              </a: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1212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j0286744" descr=""/>
            <p:cNvPicPr/>
            <p:nvPr/>
          </p:nvPicPr>
          <p:blipFill>
            <a:blip r:embed="rId2"/>
            <a:stretch/>
          </p:blipFill>
          <p:spPr>
            <a:xfrm>
              <a:off x="4952880" y="4419360"/>
              <a:ext cx="7779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40D9-195A-4E08-B96C-6FDB637230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y It Now …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strong passwor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at least 8 charac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x together letters, numbers &amp; special charac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 a “name and address” that you could write down (if absolutely necessary) to remind you of the passw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another student to try to figure out the password from the name and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5F12-860A-4C4C-B38B-E39679148E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8:18:04Z</dcterms:created>
  <dc:creator>Steve Addison</dc:creator>
  <dc:description/>
  <dc:language>en-US</dc:language>
  <cp:lastModifiedBy>Steve Addison</cp:lastModifiedBy>
  <dcterms:modified xsi:type="dcterms:W3CDTF">2005-08-08T20:52:03Z</dcterms:modified>
  <cp:revision>82</cp:revision>
  <dc:subject/>
  <dc:title>Title Page</dc:title>
</cp:coreProperties>
</file>